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E4D3-785A-4F25-9EEF-BC945A23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E5F2-D6CD-47CF-B8AF-DF6B7B565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9C80-B46C-4368-9D14-B8ABC627E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05F1-5638-499A-8D1F-CC5C62124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689B-272A-41C6-A0E8-E44C80F71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A5D9-DF80-435E-A0C0-14A35085C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65D6-1358-465D-8DC5-92BC449DD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620C-067C-4584-A543-482001B42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FCF3-28BC-4CD9-A244-89FB3E0C7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4CFD-7EDD-442C-9EF4-A5BB4B23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CBA1-34C6-407F-B0B1-99C202F1C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724A-B324-4EAF-82CA-39DE615FE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A8B01-C048-44E7-8490-FC5C90FC354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468360" y="260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ы календарного планирования: календарный план и                                                                                                              график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9487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84360" y="404640"/>
            <a:ext cx="7704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ное планирова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зработка и доведение до структурных подразделений и рабочих мест оперативных плановых заданий по выпуску продукции и обеспечению их необходимыми для этого ресурс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лендарный план производства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-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кумент, который устанавливает последовательность и сроки выполнения производственных операций, а также определяет потребность в трудовых ресурсах во време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4360" y="333360"/>
            <a:ext cx="799128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мно-календарный план (ОКП) имеет следующие знач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Предполагаемый план производства изделий.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рого производственный план компании (в отличие от прогноза и потребности), выраженный в определенном для производства ассортименте изделий, объемах и сроках их производства. При составлении объемно-календарных планов следует принимать во внимание прогноз, укрупненный производственный план, маркетинговые планы и планы замены продуктовых линий и другие исходные данные, такие как незавершенное производство готовой продукции, наличие материалов, производственных мощностей.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Результат процесса объемно-календарного планирования.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, регулирующий производство и закупку изделий, обусловленных данным методом планирования.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лан более высокого порядка, чем производственный.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осуществляется, как правило, в интервале от месяца до пяти лет. Может быть подготовлен как фактический, так и сценарны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657360" y="260280"/>
            <a:ext cx="7515000" cy="49690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657360" y="5445000"/>
            <a:ext cx="75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 оперативно-календарного п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9640" y="260280"/>
            <a:ext cx="820908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ендарный график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ческая интерпретация календарного плана, конкретизирующая его относительно состава, объемов, последовательности,                                           сроков выполнения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ды календарных графиков в зависимости от решаемых зада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Сводный календарный план или график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Объёмный календарный график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Рабочие календарные графи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Часовые календарные граф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260280"/>
            <a:ext cx="84247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формировании годового календарного плана выпуска продукции необходимо, чтобы календарное распределение обеспечивало: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Установленные сроки выпуска и поставки готовых изделий, обусловленные договорами;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 Возможность внесения корректив в связи с колебанием спроса;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Минимальное незавершённое производство путем уплотнения производственного цикла изготовления изделий;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Максимально возможное использование производственных мощностей цехов в каждом месяце;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 Создание предпосылок для слаженной и сопряжённой работы производственных подразделений и условий для эффективного функционирования предприятия в це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95280" y="630360"/>
            <a:ext cx="8497800" cy="43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ой планирования работы предприятия являются годовые пл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годовых планов уточняются и реализуются в процессе оперативного планирования производства, основная роль в котором отводится оперативно-календарному планирова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еративно-календарное планирование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первым этапом оперативно-производственного планирования и представляет собой разработку оперативных планов и графиков изготовления и выпуска проду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115920"/>
            <a:ext cx="80647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тивно-календарное планирование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первым этапом оперативно-производственного планирования и представляет собой разработку оперативных планов и графиков изготовления и выпуска проду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Оперативно-календарное планирование делится на два вида: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нутрицеховое,                                                                                                                                                                                  -  межцехово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жцеховое план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служит как для координации деятельности цехов и служб предприятия, так и в качестве базы для внутрицехового планир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5:59:10Z</dcterms:created>
  <dc:creator>Admin</dc:creator>
  <dc:description/>
  <cp:keywords/>
  <dc:language>en-US</dc:language>
  <cp:lastModifiedBy>Максим</cp:lastModifiedBy>
  <dcterms:modified xsi:type="dcterms:W3CDTF">2020-12-02T05:07:16Z</dcterms:modified>
  <cp:revision>279</cp:revision>
  <dc:subject/>
  <dc:title>Слайд 1</dc:title>
</cp:coreProperties>
</file>