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5.wmf" ContentType="image/x-wmf"/>
  <Override PartName="/ppt/media/image12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0072B-7F81-4D9B-B44D-F40EEB57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92690-9E62-4BA5-83FE-938A60F0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AFE20-ABE0-44EA-AFF6-D9CF6370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38004-DCB9-4D7C-BE6F-4806B7CE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85ED-E173-4505-B60E-D8283AAD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7DB6-6E34-4304-880B-846620B7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4F27-F9A1-429A-AFB6-B240AAEF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F6BF-A0F6-4326-BA1D-D0962A78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3803-0B61-4B30-902A-FE1C520D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F92D-7B8B-42B8-8D92-2F9D52C9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55DB-9A16-42A6-B75D-A5BAAF95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3C59D-B045-4D2E-B9FD-E581CFC2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2B26-3699-488D-A91B-DFAD9EEE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4D16-62FF-41CF-915E-9B7CD024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8B2C-BC60-415C-A116-78F977E1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35E5-C01C-4095-BFD0-E31DDBAA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A482-C78E-4E2E-8836-3246BEA6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2CEEC-286C-49D5-9898-18C6A14D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0F478-E7B8-42BE-8819-78D75870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8D128-3269-4D2A-A088-4292DB90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6CEA4-42B9-46C4-A488-CF1F3E07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45F8A-CB50-4EB4-8E53-C0AE486C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06136-04B9-42AE-A45C-7573FF90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DFB34-0D3F-4B24-9C20-6850BED5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D587-8F2B-4185-8EB9-4F95735F04C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EBEC-3D71-4B5B-AFBE-C238A2E5E5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1332000" y="1700280"/>
            <a:ext cx="6084720" cy="14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рбоновые кислот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7" name="Picture 5" descr="Муравьиная кислота (VRML-модель, 1967 байт)"/>
          <p:cNvPicPr/>
          <p:nvPr/>
        </p:nvPicPr>
        <p:blipFill>
          <a:blip r:embed="rId1"/>
          <a:stretch/>
        </p:blipFill>
        <p:spPr>
          <a:xfrm>
            <a:off x="7899480" y="620640"/>
            <a:ext cx="1244520" cy="1511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Уксусная кислота (VRML-модель, 2989 байт)"/>
          <p:cNvPicPr/>
          <p:nvPr/>
        </p:nvPicPr>
        <p:blipFill>
          <a:blip r:embed="rId2"/>
          <a:stretch/>
        </p:blipFill>
        <p:spPr>
          <a:xfrm>
            <a:off x="539640" y="5084640"/>
            <a:ext cx="1428840" cy="1177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Пропионовая кислота (VRML-модель, 4372 байт)"/>
          <p:cNvPicPr/>
          <p:nvPr/>
        </p:nvPicPr>
        <p:blipFill>
          <a:blip r:embed="rId3"/>
          <a:stretch/>
        </p:blipFill>
        <p:spPr>
          <a:xfrm>
            <a:off x="3276720" y="2997360"/>
            <a:ext cx="1823760" cy="14144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8"/>
          <p:cNvSpPr/>
          <p:nvPr/>
        </p:nvSpPr>
        <p:spPr>
          <a:xfrm>
            <a:off x="1332000" y="4724280"/>
            <a:ext cx="56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3" descr="J0286034"/>
          <p:cNvPicPr/>
          <p:nvPr/>
        </p:nvPicPr>
        <p:blipFill>
          <a:blip r:embed="rId4"/>
          <a:stretch/>
        </p:blipFill>
        <p:spPr>
          <a:xfrm>
            <a:off x="6156360" y="3933720"/>
            <a:ext cx="240516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71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Взаимодействие с солями более слабы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летучих кисло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С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OOH + Na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2C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OONa + 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O + 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Взаимодействие со спиртами (реакция этерификации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        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Взаимодействие с галоген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H + 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H + 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8. Раствор муравьиной кислоты, в отличие от других карбоновых кислот дает реакцию «серебряного зерка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cccce6"/>
                </a:solidFill>
                <a:latin typeface="Arial"/>
              </a:rPr>
              <a:t>HCOOH + Ag</a:t>
            </a:r>
            <a:r>
              <a:rPr b="0" lang="en-US" sz="2400" spc="-1" strike="noStrike" baseline="-25000">
                <a:solidFill>
                  <a:srgbClr val="cccce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cce6"/>
                </a:solidFill>
                <a:latin typeface="Arial"/>
              </a:rPr>
              <a:t>O </a:t>
            </a:r>
            <a:r>
              <a:rPr b="0" lang="ru-RU" sz="2800" spc="-1" strike="noStrike">
                <a:solidFill>
                  <a:srgbClr val="cccce6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cccce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cccce6"/>
                </a:solidFill>
                <a:latin typeface="Arial"/>
                <a:ea typeface="Arial"/>
              </a:rPr>
              <a:t>CO</a:t>
            </a:r>
            <a:r>
              <a:rPr b="0" lang="en-US" sz="2400" spc="-1" strike="noStrike" baseline="-25000">
                <a:solidFill>
                  <a:srgbClr val="cccce6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cccce6"/>
                </a:solidFill>
                <a:latin typeface="Arial"/>
                <a:ea typeface="Arial"/>
              </a:rPr>
              <a:t>+ H</a:t>
            </a:r>
            <a:r>
              <a:rPr b="0" lang="en-US" sz="2400" spc="-1" strike="noStrike" baseline="-25000">
                <a:solidFill>
                  <a:srgbClr val="cccce6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cccce6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3857760" y="29289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. Декарбоксилирование - удаление карбоксильной груп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нагревании с твердыми щелочами соли карбоновых кислот дают алкан с числом атомов углерода на единицу меньше, а карбоксильная группа удаляется в виде карбона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RCOONa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т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+ NaOH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тв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 RH + Na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вердые соли карбоновых кислот со щелочноземельными металлами при нагревании дают кетон и карбон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СН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О)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 = СН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СО-СН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+ СаСО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00240"/>
          </a:xfrm>
          <a:prstGeom prst="rect">
            <a:avLst/>
          </a:prstGeom>
          <a:ln w="0">
            <a:noFill/>
          </a:ln>
        </p:spPr>
      </p:pic>
      <p:sp>
        <p:nvSpPr>
          <p:cNvPr id="160" name="TextBox 5"/>
          <p:cNvSpPr/>
          <p:nvPr/>
        </p:nvSpPr>
        <p:spPr>
          <a:xfrm>
            <a:off x="3071880" y="928800"/>
            <a:ext cx="7761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baseline="-25000">
                <a:solidFill>
                  <a:srgbClr val="000000"/>
                </a:solidFill>
                <a:latin typeface="Calibri"/>
              </a:rPr>
              <a:t>C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6286680" y="207180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8358120" y="1143000"/>
            <a:ext cx="69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3597120" y="1357200"/>
            <a:ext cx="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285840" y="3000240"/>
            <a:ext cx="8643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роме реакции этерификации, для карбоновых кислот существует реакция замещения галогенами атомов водорода в радикале. Замещение протекает при 2-м атоме углерода и происходит на катализатор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анная реакция является промежуточной для получения аминокисл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8"/>
          <p:cNvSpPr/>
          <p:nvPr/>
        </p:nvSpPr>
        <p:spPr>
          <a:xfrm>
            <a:off x="285840" y="214200"/>
            <a:ext cx="500040" cy="428760"/>
          </a:xfrm>
          <a:prstGeom prst="rect">
            <a:avLst/>
          </a:prstGeom>
          <a:solidFill>
            <a:srgbClr val="9999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22160" y="164268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ЛУЧЕНИЕ КАРБОНОВЫХ КИСЛ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C:\Users\Лена\Desktop\Downloads\Carboxylic-acid-group-3D.png"/>
          <p:cNvPicPr/>
          <p:nvPr/>
        </p:nvPicPr>
        <p:blipFill>
          <a:blip r:embed="rId1"/>
          <a:stretch/>
        </p:blipFill>
        <p:spPr>
          <a:xfrm>
            <a:off x="3714840" y="3286080"/>
            <a:ext cx="49291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Окисление непредельных углеводородов подкисленным раствором перманганата калия или дихромата кал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221436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R=CHR + 8K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+ 12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= 10RCOOH + 8Mn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+ 4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+ 12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C:\Users\Лена\Desktop\Downloads\d5696a00_3347_0131_10a3_12313d221ea2.jpg"/>
          <p:cNvPicPr/>
          <p:nvPr/>
        </p:nvPicPr>
        <p:blipFill>
          <a:blip r:embed="rId1"/>
          <a:stretch/>
        </p:blipFill>
        <p:spPr>
          <a:xfrm>
            <a:off x="2500200" y="3500280"/>
            <a:ext cx="37148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Окисление спиртов подкисленным раствором перманганата или дихромата кал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981080"/>
            <a:ext cx="8229600" cy="21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С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+ 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+ 8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= 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ОН + 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+ 2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+ 11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C:\Users\Лена\Desktop\Downloads\d672b8b0_3347_0131_10a4_12313d221ea2.jpg"/>
          <p:cNvPicPr/>
          <p:nvPr/>
        </p:nvPicPr>
        <p:blipFill>
          <a:blip r:embed="rId1"/>
          <a:stretch/>
        </p:blipFill>
        <p:spPr>
          <a:xfrm>
            <a:off x="2214720" y="3571920"/>
            <a:ext cx="37861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Окисление альдегидов мягкими окислителя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-CHO + Ag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R-COOH + 2Ag¯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-CHO + 2Cu(OH)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R-COOH + Cu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¯ + 2H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При окислении аренов перманганатом или дихроматом калия образуется бензойная кисло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С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СН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СН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+ 8KMnO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+ 12H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= 5С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COOH + 5СО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+ 8MnSO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+ 4K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+ 22H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1547640" y="836640"/>
            <a:ext cx="64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рбоновые кислот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органические соединения, содержащие одну или несколько карбоксильных групп –СООН, соединённых с углеводородным радика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79280" y="2595960"/>
            <a:ext cx="781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рбоксильная группа содержит дв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ункциональные группы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посредственно связанные друг с друг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357800" y="4606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286160" y="5086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4665600" y="530712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4883040" y="5091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V="1">
            <a:off x="5241960" y="4947840"/>
            <a:ext cx="142920" cy="1429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 flipV="1">
            <a:off x="5313240" y="5019480"/>
            <a:ext cx="144720" cy="144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436720" y="45813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3"/>
          <p:cNvSpPr/>
          <p:nvPr/>
        </p:nvSpPr>
        <p:spPr>
          <a:xfrm>
            <a:off x="5240160" y="5450040"/>
            <a:ext cx="216000" cy="2156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5436720" y="55166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6"/>
          <p:cNvSpPr/>
          <p:nvPr/>
        </p:nvSpPr>
        <p:spPr>
          <a:xfrm>
            <a:off x="5818320" y="5740560"/>
            <a:ext cx="36036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6178320" y="5524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3924720" y="3141720"/>
            <a:ext cx="25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рбони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&gt;С=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6804000" y="314172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дрокси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33"/>
                                      </p:to>
                                    </p:animClr>
                                    <p:animClr clrSpc="rgb">
                                      <p:cBhvr>
                                        <p:cTn id="15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0033"/>
                                      </p:to>
                                    </p:animClr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33"/>
                                      </p:to>
                                    </p:animClr>
                                    <p:animClr clrSpc="rgb">
                                      <p:cBhvr>
                                        <p:cTn id="19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0033"/>
                                      </p:to>
                                    </p:animClr>
                                    <p:set>
                                      <p:cBhvr>
                                        <p:cTn id="20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33"/>
                                      </p:to>
                                    </p:animClr>
                                    <p:animClr clrSpc="rgb">
                                      <p:cBhvr>
                                        <p:cTn id="23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0033"/>
                                      </p:to>
                                    </p:animClr>
                                    <p:set>
                                      <p:cBhvr>
                                        <p:cTn id="24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" dur="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" dur="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3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7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8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ецифические способы получения уксусной кисло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00040" y="200016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ерментативное окисление водных растворов этилового спир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OH + O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 CH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COOH + H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талитическое окисление бутана кислородом воздуха (в промышленности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+ 5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4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H + 2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ецифические способы получения муравьиной  кисло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9810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заимодействие гидроксида натрия и монооксида углерода при нагревании и повышенном давлении (в промышленности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NaOH + CO =  HCOONa  HCOO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C:\Users\Лена\Desktop\Downloads\415464_html_m5d5edf3e.png"/>
          <p:cNvPicPr/>
          <p:nvPr/>
        </p:nvPicPr>
        <p:blipFill>
          <a:blip r:embed="rId1"/>
          <a:stretch/>
        </p:blipFill>
        <p:spPr>
          <a:xfrm>
            <a:off x="571680" y="4214880"/>
            <a:ext cx="72864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2. Получение хлорангидрид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3 R-COOH + PCl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 → 3 R-COCl + H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-COOH + PCl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 → R-COCl + POCl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 + 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-COOH + COCl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 → R-COCl + CO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↑ + HCl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2"/>
                </a:solidFill>
                <a:latin typeface="Arial"/>
              </a:rPr>
              <a:t>13. Получение ангидридов К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C:\Users\Лена\Desktop\Downloads\image019.gif"/>
          <p:cNvPicPr/>
          <p:nvPr/>
        </p:nvPicPr>
        <p:blipFill>
          <a:blip r:embed="rId1"/>
          <a:stretch/>
        </p:blipFill>
        <p:spPr>
          <a:xfrm>
            <a:off x="857160" y="2071800"/>
            <a:ext cx="700092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C:\Users\Лена\Desktop\Downloads\660df550_32a4_0131_d28d_12313d221ea2.jpg"/>
          <p:cNvPicPr/>
          <p:nvPr/>
        </p:nvPicPr>
        <p:blipFill>
          <a:blip r:embed="rId1"/>
          <a:stretch/>
        </p:blipFill>
        <p:spPr>
          <a:xfrm>
            <a:off x="714240" y="857160"/>
            <a:ext cx="778680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C:\Users\Лена\Desktop\Downloads\66d50890_32a4_0131_d28e_12313d221ea2.jpg"/>
          <p:cNvPicPr/>
          <p:nvPr/>
        </p:nvPicPr>
        <p:blipFill>
          <a:blip r:embed="rId1"/>
          <a:stretch/>
        </p:blipFill>
        <p:spPr>
          <a:xfrm>
            <a:off x="428760" y="785880"/>
            <a:ext cx="82152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высшие карбоновые кислоты"/>
          <p:cNvPicPr/>
          <p:nvPr/>
        </p:nvPicPr>
        <p:blipFill>
          <a:blip r:embed="rId1"/>
          <a:stretch/>
        </p:blipFill>
        <p:spPr>
          <a:xfrm>
            <a:off x="2050920" y="476280"/>
            <a:ext cx="382752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Примен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уравьиная кислота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в медицине, в пчеловодстве, в органическом синтезе, при получении растворителей и консервантов; в качестве сильного восстановителя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Уксусная кислота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в пищевой и химической промышленности (производство ацетилцеллюлозы, из которой получают ацетатное волокно, органическое стекло, киноплёнку; для синтеза красителей, медикаментов и сложных эфиров)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асляная кислота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для получения ароматизирующих добавок, пластифика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Щавелевая кислота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в металлургической промышленности (удаление окали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0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теариновая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C</a:t>
            </a:r>
            <a:r>
              <a:rPr b="0" lang="ru-RU" sz="2000" spc="-1" strike="noStrike" u="sng" baseline="-25000">
                <a:solidFill>
                  <a:srgbClr val="ffffff"/>
                </a:solidFill>
                <a:uFillTx/>
                <a:latin typeface="Arial"/>
              </a:rPr>
              <a:t>17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H</a:t>
            </a:r>
            <a:r>
              <a:rPr b="0" lang="ru-RU" sz="2000" spc="-1" strike="noStrike" u="sng" baseline="-25000">
                <a:solidFill>
                  <a:srgbClr val="ffffff"/>
                </a:solidFill>
                <a:uFillTx/>
                <a:latin typeface="Arial"/>
              </a:rPr>
              <a:t>35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COOH и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альмитиновая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ислоты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C</a:t>
            </a:r>
            <a:r>
              <a:rPr b="0" lang="ru-RU" sz="2000" spc="-1" strike="noStrike" u="sng" baseline="-25000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H</a:t>
            </a:r>
            <a:r>
              <a:rPr b="0" lang="ru-RU" sz="2000" spc="-1" strike="noStrike" u="sng" baseline="-25000">
                <a:solidFill>
                  <a:srgbClr val="ffffff"/>
                </a:solidFill>
                <a:uFillTx/>
                <a:latin typeface="Arial"/>
              </a:rPr>
              <a:t>31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COOH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в качестве поверхностно-активных веществ, смазочных материалов в металлообработк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20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Users\Лена\Desktop\Downloads\6022e8d0_32a4_0131_d286_12313d221ea2.jpg"/>
          <p:cNvPicPr/>
          <p:nvPr/>
        </p:nvPicPr>
        <p:blipFill>
          <a:blip r:embed="rId1"/>
          <a:stretch/>
        </p:blipFill>
        <p:spPr>
          <a:xfrm>
            <a:off x="500040" y="2571840"/>
            <a:ext cx="8072640" cy="3929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троение молекул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13840" y="2714400"/>
            <a:ext cx="847260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Модели молеку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81200" y="260280"/>
            <a:ext cx="8362800" cy="583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кислота1"/>
          <p:cNvPicPr/>
          <p:nvPr/>
        </p:nvPicPr>
        <p:blipFill>
          <a:blip r:embed="rId1"/>
          <a:stretch/>
        </p:blipFill>
        <p:spPr>
          <a:xfrm>
            <a:off x="5219640" y="2271600"/>
            <a:ext cx="3606840" cy="2973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кислота"/>
          <p:cNvPicPr/>
          <p:nvPr/>
        </p:nvPicPr>
        <p:blipFill>
          <a:blip r:embed="rId2"/>
          <a:stretch/>
        </p:blipFill>
        <p:spPr>
          <a:xfrm>
            <a:off x="679320" y="1916280"/>
            <a:ext cx="3603600" cy="3628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1"/>
          <p:cNvSpPr/>
          <p:nvPr/>
        </p:nvSpPr>
        <p:spPr>
          <a:xfrm>
            <a:off x="4695840" y="5243400"/>
            <a:ext cx="41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ксусная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76200" y="5589720"/>
            <a:ext cx="376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равьиная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ногие кислоты имеют исторически сложившиеся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виальны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звания, связанные главным образом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точником их пол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все это нужно (6)"/>
          <p:cNvPicPr/>
          <p:nvPr/>
        </p:nvPicPr>
        <p:blipFill>
          <a:blip r:embed="rId1"/>
          <a:stretch/>
        </p:blipFill>
        <p:spPr>
          <a:xfrm>
            <a:off x="4140360" y="1457280"/>
            <a:ext cx="4392360" cy="5400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карбоновые кислоты"/>
          <p:cNvPicPr/>
          <p:nvPr/>
        </p:nvPicPr>
        <p:blipFill>
          <a:blip r:embed="rId2"/>
          <a:stretch/>
        </p:blipFill>
        <p:spPr>
          <a:xfrm>
            <a:off x="324000" y="2133720"/>
            <a:ext cx="3384360" cy="3743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7"/>
          <p:cNvSpPr/>
          <p:nvPr/>
        </p:nvSpPr>
        <p:spPr>
          <a:xfrm>
            <a:off x="0" y="6021360"/>
            <a:ext cx="39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арбоновые кислоты в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1692360" y="620640"/>
            <a:ext cx="675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омерия  карбоновых  кисл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зомерия  карбоновых  кисло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жклассовая изомерия со сложными эфир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3-CH2-CH2-COOH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пановая кисл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3-CH2-COOCH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метиловый эфир уксусной кислоты (метилацета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Физические свой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жидкости с характерным резким запах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вязкие маслянистые жидкости с неприятным запах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0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ердые нерастворимые 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рбоновые кислоты имеют аномально высокие температуры кипения из-за наличия межмолекулярных водородных связей и существуют в основном в виде димеров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e6"/>
                </a:solidFill>
                <a:latin typeface="Arial"/>
              </a:rPr>
              <a:t>С ростом относительной молекулярной массы температура кипения предельных одноосновных кислот увеличив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Химические свойства ПОК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Карбоновые кислоты- слабые электролиты, в водном растворе диссоциирую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cccce6"/>
                </a:solidFill>
                <a:latin typeface="Arial"/>
              </a:rPr>
              <a:t>R–COOH        R–COO</a:t>
            </a:r>
            <a:r>
              <a:rPr b="0" lang="ru-RU" sz="2400" spc="-1" strike="noStrike" baseline="30000">
                <a:solidFill>
                  <a:srgbClr val="cccce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cccce6"/>
                </a:solidFill>
                <a:latin typeface="Arial"/>
              </a:rPr>
              <a:t> + H</a:t>
            </a:r>
            <a:r>
              <a:rPr b="0" lang="ru-RU" sz="2400" spc="-1" strike="noStrike" baseline="30000">
                <a:solidFill>
                  <a:srgbClr val="cccce6"/>
                </a:solidFill>
                <a:latin typeface="Arial"/>
              </a:rPr>
              <a:t>+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Взаимодействие с металл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cccce6"/>
                </a:solidFill>
                <a:latin typeface="Arial"/>
              </a:rPr>
              <a:t>2СH</a:t>
            </a:r>
            <a:r>
              <a:rPr b="0" lang="ru-RU" sz="2400" spc="-1" strike="noStrike" baseline="-25000">
                <a:solidFill>
                  <a:srgbClr val="cccce6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cccce6"/>
                </a:solidFill>
                <a:latin typeface="Arial"/>
              </a:rPr>
              <a:t>COOH + Mg </a:t>
            </a:r>
            <a:r>
              <a:rPr b="0" lang="ru-RU" sz="2400" spc="-1" strike="noStrike">
                <a:solidFill>
                  <a:srgbClr val="cccce6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cccce6"/>
                </a:solidFill>
                <a:latin typeface="Arial"/>
              </a:rPr>
              <a:t> (CH</a:t>
            </a:r>
            <a:r>
              <a:rPr b="0" lang="ru-RU" sz="2400" spc="-1" strike="noStrike" baseline="-25000">
                <a:solidFill>
                  <a:srgbClr val="cccce6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cccce6"/>
                </a:solidFill>
                <a:latin typeface="Arial"/>
              </a:rPr>
              <a:t>COO)</a:t>
            </a:r>
            <a:r>
              <a:rPr b="0" lang="ru-RU" sz="2400" spc="-1" strike="noStrike" baseline="-25000">
                <a:solidFill>
                  <a:srgbClr val="cccce6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cccce6"/>
                </a:solidFill>
                <a:latin typeface="Arial"/>
              </a:rPr>
              <a:t>Mg + H</a:t>
            </a:r>
            <a:r>
              <a:rPr b="0" lang="ru-RU" sz="2400" spc="-1" strike="noStrike" baseline="-25000">
                <a:solidFill>
                  <a:srgbClr val="cccce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Взаимодействие с основными оксидами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cccce6"/>
                </a:solidFill>
                <a:latin typeface="Arial"/>
              </a:rPr>
              <a:t>2СH</a:t>
            </a:r>
            <a:r>
              <a:rPr b="0" lang="ru-RU" sz="2400" spc="-1" strike="noStrike" baseline="-25000">
                <a:solidFill>
                  <a:srgbClr val="cccce6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cccce6"/>
                </a:solidFill>
                <a:latin typeface="Arial"/>
              </a:rPr>
              <a:t>COOH + СaO </a:t>
            </a:r>
            <a:r>
              <a:rPr b="0" lang="ru-RU" sz="2400" spc="-1" strike="noStrike">
                <a:solidFill>
                  <a:srgbClr val="cccce6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cccce6"/>
                </a:solidFill>
                <a:latin typeface="Arial"/>
              </a:rPr>
              <a:t> (CH</a:t>
            </a:r>
            <a:r>
              <a:rPr b="0" lang="ru-RU" sz="2400" spc="-1" strike="noStrike" baseline="-25000">
                <a:solidFill>
                  <a:srgbClr val="cccce6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cccce6"/>
                </a:solidFill>
                <a:latin typeface="Arial"/>
              </a:rPr>
              <a:t>COO)</a:t>
            </a:r>
            <a:r>
              <a:rPr b="0" lang="ru-RU" sz="2400" spc="-1" strike="noStrike" baseline="-25000">
                <a:solidFill>
                  <a:srgbClr val="cccce6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cccce6"/>
                </a:solidFill>
                <a:latin typeface="Arial"/>
              </a:rPr>
              <a:t>Ca + H</a:t>
            </a:r>
            <a:r>
              <a:rPr b="0" lang="ru-RU" sz="2400" spc="-1" strike="noStrike" baseline="-25000">
                <a:solidFill>
                  <a:srgbClr val="cccce6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cccce6"/>
                </a:solidFill>
                <a:latin typeface="Arial"/>
              </a:rPr>
              <a:t>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Взаимодействие с основания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cccce6"/>
                </a:solidFill>
                <a:latin typeface="Arial"/>
              </a:rPr>
              <a:t>H–COOH + NaOH </a:t>
            </a:r>
            <a:r>
              <a:rPr b="0" lang="ru-RU" sz="2400" spc="-1" strike="noStrike">
                <a:solidFill>
                  <a:srgbClr val="cccce6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cccce6"/>
                </a:solidFill>
                <a:latin typeface="Arial"/>
              </a:rPr>
              <a:t> H–COONa + H</a:t>
            </a:r>
            <a:r>
              <a:rPr b="0" lang="ru-RU" sz="2400" spc="-1" strike="noStrike" baseline="-25000">
                <a:solidFill>
                  <a:srgbClr val="cccce6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cccce6"/>
                </a:solidFill>
                <a:latin typeface="Arial"/>
              </a:rPr>
              <a:t>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3500280" y="20718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C:\Users\Лена\Desktop\Downloads\636cde60_32a4_0131_d28a_12313d221ea2.jpg"/>
          <p:cNvPicPr/>
          <p:nvPr/>
        </p:nvPicPr>
        <p:blipFill>
          <a:blip r:embed="rId1"/>
          <a:stretch/>
        </p:blipFill>
        <p:spPr>
          <a:xfrm>
            <a:off x="1500120" y="2428920"/>
            <a:ext cx="5000760" cy="127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5:03:24Z</dcterms:created>
  <dc:creator>AVALON2</dc:creator>
  <dc:description/>
  <dc:language>en-US</dc:language>
  <cp:lastModifiedBy>acer</cp:lastModifiedBy>
  <dcterms:modified xsi:type="dcterms:W3CDTF">2020-04-13T12:59:55Z</dcterms:modified>
  <cp:revision>29</cp:revision>
  <dc:subject/>
  <dc:title>Слайд 1</dc:title>
</cp:coreProperties>
</file>